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4DA-F9AF-4D12-8495-AFE7CD17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526-0505-4432-935A-B8062304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491-ABE1-43E9-98BD-999D8229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7B1-6BF0-48F5-A58E-CCBA1A21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C69F-1B71-4906-BCE5-C8D36EC6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5A80-1636-4EDD-9A7C-E33C0575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A9D1-7183-47FE-B1D1-EE00A78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5E04-B67D-4985-8A83-1B61790B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58E5-8321-4CB5-B3B4-7A5FAE49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7239-C3E8-427B-9EDB-03F12B4E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C34F-82E6-4505-8394-74A62750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DCA-46BB-43B8-8DCB-F89EA1AA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E31F-CA4F-4F1B-92B9-9984039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FE57-8AD8-417C-B085-451D6C3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0C1A-0C75-4C16-9725-3727FBE7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90BB-5E19-4288-914F-EBD33A3A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1624-3E8B-418B-8F71-A39EA983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73E6-0351-4CB8-97C7-3E032E11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E3A9-1C07-494B-92FA-BCFCB25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149F-2849-47BF-9DBF-C3353645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86D0-3D8D-4536-8760-8DB9FAB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C390-F3D0-4AEB-B9C0-F2CCD348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25B-5527-48C9-B381-95A477BE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A489-0269-402C-AA2A-4AE12198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9F5E-B9AE-4616-8BC7-95D906C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48D3-16FC-48C7-80F7-FB29823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79BF-C1D8-4795-8033-32BAEA0F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27A5-3105-4AB8-9AEC-D88D73FB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7D7E-1168-481D-A83C-C7C35D5D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E1D9-B193-4FFE-A9B2-D58320A3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E530F-EBE1-4CCF-9DC0-ED42A1A2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63FC-5FEB-4A6C-B319-7AEEF018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5D07-22DA-4060-8769-E83C34BD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977-4177-4CBA-953E-F1430FA4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F371-B1C9-472F-93C0-52034D55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62A6-43E3-49CA-8922-632EDA65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5DB6-3A58-4C46-96BC-C105422C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4A03-E1FB-4668-9D56-ACEA7F81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0B65-212B-421D-8168-1D478D7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61D3-50B4-4394-B9C0-D8C3333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75E1-287B-4594-8116-6AD64675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D94B9-5C8C-4C59-9D26-F14C7E31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9BEA-98F0-41D7-80F8-9308E78C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07DF6-61CB-47E3-BD46-D5B30D43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254-C418-4FDC-BCBE-2306BB8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CACD3-D089-490B-BB9A-5829A587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9DBF6-9827-474A-8558-FDBAABED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32A05-F89C-46C3-A003-E48A1412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C9FE-E516-464B-B42F-08D571C9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824AC-B4E3-4E42-A830-E82B5976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E5E0-C66E-4481-8DC4-A9548A1F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4FDAD-B98A-47CF-BD9B-705BEB40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10B20-F66A-4278-A57D-076D309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C76AC-2543-4059-A422-EC44379A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DD1FC-2232-49F5-8352-F7E529D6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665-7F0E-4654-A170-D6BECEA1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7D9F6-9B3A-48A6-92C9-D8086FBE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AC6B-14E9-491A-BADA-D323F4FE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E04D0-E87D-489C-A0F9-A7724165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893C9-494D-4316-9539-9EBFC95C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115BB-A0F9-45CB-98D6-C5F817CD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987DC-1201-4C8D-AE49-37CA3A3E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D089D-01CA-4603-ABC0-58AE69C5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34F68-C1DB-4881-A740-8FCF448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147D9-D81A-4C2D-96F5-59131D3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1FBFE-8FAC-4598-BC3C-9467319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F8B-60D9-4725-8D93-92EDB4D8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97A19-2C0D-423F-9F3C-B90D81A2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4BE2D-F266-4760-A95F-FF633F10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D9433-5614-4318-BC10-2F272C8C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EB6B-A7E6-4BD8-BE53-174DBC01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D1C17-6EFC-4244-9600-348798A5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1A51E-93EC-48B4-B4D1-EB6D6D52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3CE72-07F4-48B9-9CAA-ECBE8695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950D-A654-4111-9915-11A273D0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A751D-6006-4083-BF0C-48FEDF66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6D85-33D1-408E-8B5A-5AC97C96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A92-B78D-4343-88F4-9908B5A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DC907-7451-46ED-B8A8-8C4A449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E82B-6DD0-4308-8ECA-A46A310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2A0A0-272A-470C-91A4-D59EB1DD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519C5-35C9-47DA-A105-979C4FBD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A1F34-6E0D-41C0-BBC1-0934CD44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7F0-F43F-4A59-9681-A6E4795A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7949-2C9B-4E88-BF62-186E281D970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C87F-306F-4D4A-850A-0B863BC2607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6059-FC26-451B-9575-7108F1875CB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B86C-A994-4B8F-A87E-B5671357D5D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A33B-7909-4D99-BAD7-E989EB18475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D36E-0CE4-45C0-BC94-C13A5C2F2CB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C958-F469-4863-9BFE-33393243428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uropean Statehoo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General Inform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447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narchs were weakened by: HYWar, plague, feudalis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ynical, calculating, power-hungry, feared over loved . . .  Machiavell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oyal authority &amp; national purpo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narchy was the uniting force of all subje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ppress rebellio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ax businessmen in return for stabil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ly Roman Empire (Germany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actured into principalit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uldn’t deal with Rome as an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356 – Golden Bull: 7 electors select emper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ichstag: a diet of electors, princes &amp; free cities that could enact refor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rfect origin for a religious reform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an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914040"/>
            <a:ext cx="77724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eys to French succ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llapse of the English Empire after HYW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feat of Charles the Bold (Burgundy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rles VII (r 1422-1461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trong economy under Jacques Coeu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ational administration/diplomatic corp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uis XI (r 1461-1483) son of Char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omoted industry and trade… silk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vaded Burgund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iddle class money to destroy feudal lord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tart of royal absolutis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rance Continu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uis XII marries Anne of Brittany which expands the n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ordat of Bologna: French king controls the appointment of church officials inside Fra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nglan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akened by HYW defea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ar of Roses and rival nobles decentraliz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nry VII (r1485-1509) follows Richard III (murdered Edward IV’s sons?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rries Edward’s daughter to consolida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voids war in order to cut spending – no need to call Parliament (aristocratic power is checked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urt of Star Chamb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ing’s councilors served as judg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nded the self-serving corruption of noble judges and magistrat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urts became more equitabl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nry used his influence to confiscate noble lands and weaken the aristocracy and Parliam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pai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ion of Isabella of Castile and Ferdinand of Aragon unite economies but not laws/militaries (neighbors fear power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nquista – Catholic Spain and new lan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quisition lead by Torquemada and Cisneros leads to conform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rried children to Hapsburgs, and Henry VIII of Engl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mote new exploration for the advancement of the empire (gold/silver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1:52:21Z</dcterms:created>
  <dc:creator>Kuenzi</dc:creator>
  <dc:description/>
  <dc:language>en-US</dc:language>
  <cp:lastModifiedBy>Gail</cp:lastModifiedBy>
  <dcterms:modified xsi:type="dcterms:W3CDTF">2012-09-01T20:19:48Z</dcterms:modified>
  <cp:revision>10</cp:revision>
  <dc:subject/>
  <dc:title>New Monarchies</dc:title>
</cp:coreProperties>
</file>